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6BB-E72C-4566-8264-8DC1EE1FB40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C43-1E01-41A1-BD84-A7D4013E16D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998-93C8-4A27-B8A7-1F911F33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063-4D33-4563-8C54-D311A1F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EC5-9FC1-4707-98EF-B8726215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5F6-CA4B-4BAB-A861-CE1734C2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F26-1CD5-4CF6-834E-DAF9738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2DA-E1DB-4FB6-9D99-71E5E49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520-FA95-4679-B66A-D6307AF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4DB-981A-4CF5-9A33-DA7C0E3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35B-8F10-467E-AAEE-09E9591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CCB-4BCB-4A11-95BE-9F82EE4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600-125C-4AB6-AD3A-BE642F0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073-8B95-4CC1-9544-2168EDF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15d"/>
            </a:gs>
            <a:gs pos="50000">
              <a:srgbClr val="33cc33"/>
            </a:gs>
            <a:gs pos="100000">
              <a:srgbClr val="edf1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259-3EB9-4238-B5C0-18D0B5AA1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AN044"/>
          <p:cNvPicPr/>
          <p:nvPr/>
        </p:nvPicPr>
        <p:blipFill>
          <a:blip r:embed="rId2"/>
          <a:stretch/>
        </p:blipFill>
        <p:spPr>
          <a:xfrm>
            <a:off x="6019920" y="3657600"/>
            <a:ext cx="1584360" cy="14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ird2-3"/>
          <p:cNvPicPr/>
          <p:nvPr/>
        </p:nvPicPr>
        <p:blipFill>
          <a:blip r:embed="rId3"/>
          <a:stretch/>
        </p:blipFill>
        <p:spPr>
          <a:xfrm>
            <a:off x="5029200" y="1981080"/>
            <a:ext cx="7905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ТНЫЕ В ОПАСНОСТ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http://forumsmile.ru/u/5/6/7/56792299206e72d2a0eca65817f1a332.gif"/>
          <p:cNvPicPr/>
          <p:nvPr/>
        </p:nvPicPr>
        <p:blipFill>
          <a:blip r:embed="rId4"/>
          <a:stretch/>
        </p:blipFill>
        <p:spPr>
          <a:xfrm>
            <a:off x="228600" y="2209680"/>
            <a:ext cx="59040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animashki.kak2z.org/pic/3/jivotniea-2546.gif"/>
          <p:cNvPicPr/>
          <p:nvPr/>
        </p:nvPicPr>
        <p:blipFill>
          <a:blip r:embed="rId5"/>
          <a:stretch/>
        </p:blipFill>
        <p:spPr>
          <a:xfrm>
            <a:off x="1752480" y="5029200"/>
            <a:ext cx="10940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ds03.infourok.ru/uploads/ex/0d01/00056430-d296827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im0-tub-ru.yandex.net/i?id=79a476ae2318dc1078c44eb3ff5181ad-srl&amp;n=13"/>
          <p:cNvPicPr/>
          <p:nvPr/>
        </p:nvPicPr>
        <p:blipFill>
          <a:blip r:embed="rId2"/>
          <a:stretch/>
        </p:blipFill>
        <p:spPr>
          <a:xfrm>
            <a:off x="7162920" y="5486400"/>
            <a:ext cx="830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.myshared.ru/6/643430/slide_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274680"/>
            <a:ext cx="8686800" cy="132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ЖИВОТНЫЕ ЗАНЕСЕ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 КРАСНУЮ КНИГУ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орова, лошадь, гусь, петух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590920"/>
            <a:ext cx="8229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игр, морж, фламинго, орёл - беркут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35053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винья, овца, курица, индю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-main-pic" descr="Картинка 115 из 3757"/>
          <p:cNvPicPr/>
          <p:nvPr/>
        </p:nvPicPr>
        <p:blipFill>
          <a:blip r:embed="rId1"/>
          <a:stretch/>
        </p:blipFill>
        <p:spPr>
          <a:xfrm>
            <a:off x="5105520" y="4419720"/>
            <a:ext cx="18288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i-main-pic" descr="Картинка 275 из 143898"/>
          <p:cNvPicPr/>
          <p:nvPr/>
        </p:nvPicPr>
        <p:blipFill>
          <a:blip r:embed="rId2"/>
          <a:stretch/>
        </p:blipFill>
        <p:spPr>
          <a:xfrm>
            <a:off x="152280" y="4419720"/>
            <a:ext cx="23623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i-main-pic" descr="Картинка 73 из 8689"/>
          <p:cNvPicPr/>
          <p:nvPr/>
        </p:nvPicPr>
        <p:blipFill>
          <a:blip r:embed="rId3"/>
          <a:stretch/>
        </p:blipFill>
        <p:spPr>
          <a:xfrm>
            <a:off x="2666880" y="4419720"/>
            <a:ext cx="22860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i-main-pic" descr="Картинка 4 из 3784"/>
          <p:cNvPicPr/>
          <p:nvPr/>
        </p:nvPicPr>
        <p:blipFill>
          <a:blip r:embed="rId4"/>
          <a:stretch/>
        </p:blipFill>
        <p:spPr>
          <a:xfrm>
            <a:off x="7086600" y="4419720"/>
            <a:ext cx="19051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274680"/>
            <a:ext cx="86868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КОТОРЫЕ ВИДЫ ЖИВОТНЫХ УЖЕ СПАСЕНЫ. НАЗОВИ И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167652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белка, заяц, кабан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51460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бобр, соболь, куница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8600" y="335268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лось, лиса, вол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58 из 42018"/>
          <p:cNvPicPr/>
          <p:nvPr/>
        </p:nvPicPr>
        <p:blipFill>
          <a:blip r:embed="rId1"/>
          <a:stretch/>
        </p:blipFill>
        <p:spPr>
          <a:xfrm>
            <a:off x="5867280" y="1676520"/>
            <a:ext cx="304812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i-main-pic" descr="Картинка 11 из 18466"/>
          <p:cNvPicPr/>
          <p:nvPr/>
        </p:nvPicPr>
        <p:blipFill>
          <a:blip r:embed="rId2"/>
          <a:stretch/>
        </p:blipFill>
        <p:spPr>
          <a:xfrm>
            <a:off x="304920" y="4191120"/>
            <a:ext cx="3962160" cy="197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i-main-pic" descr="Картинка 51 из 375"/>
          <p:cNvPicPr/>
          <p:nvPr/>
        </p:nvPicPr>
        <p:blipFill>
          <a:blip r:embed="rId3"/>
          <a:stretch/>
        </p:blipFill>
        <p:spPr>
          <a:xfrm>
            <a:off x="5105520" y="4724280"/>
            <a:ext cx="380988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Rectangle 9"/>
          <p:cNvSpPr/>
          <p:nvPr/>
        </p:nvSpPr>
        <p:spPr>
          <a:xfrm>
            <a:off x="10666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б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9528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00800" y="4038480"/>
            <a:ext cx="23623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б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1722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9051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4382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9718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0384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3059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905120" y="990720"/>
            <a:ext cx="5331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7057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1055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56386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5053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4382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9718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72388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40384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5053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9718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4382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19051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13716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45720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77724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6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9051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5720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2438280" y="19051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718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5053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403848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3049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29718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243828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1905120" y="23623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9718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2"/>
          <p:cNvSpPr/>
          <p:nvPr/>
        </p:nvSpPr>
        <p:spPr>
          <a:xfrm>
            <a:off x="2438280" y="28195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19051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8380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"/>
          <p:cNvSpPr/>
          <p:nvPr/>
        </p:nvSpPr>
        <p:spPr>
          <a:xfrm>
            <a:off x="13716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6"/>
          <p:cNvSpPr/>
          <p:nvPr/>
        </p:nvSpPr>
        <p:spPr>
          <a:xfrm>
            <a:off x="40384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"/>
          <p:cNvSpPr/>
          <p:nvPr/>
        </p:nvSpPr>
        <p:spPr>
          <a:xfrm>
            <a:off x="40384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3581280" y="457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1982520" y="9144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1828800" y="472428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1373760" y="137160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350676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2"/>
          <p:cNvSpPr/>
          <p:nvPr/>
        </p:nvSpPr>
        <p:spPr>
          <a:xfrm>
            <a:off x="457344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6"/>
          <p:cNvSpPr/>
          <p:nvPr/>
        </p:nvSpPr>
        <p:spPr>
          <a:xfrm>
            <a:off x="67071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7"/>
          <p:cNvSpPr/>
          <p:nvPr/>
        </p:nvSpPr>
        <p:spPr>
          <a:xfrm>
            <a:off x="7240320" y="914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83073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7"/>
          <p:cNvSpPr/>
          <p:nvPr/>
        </p:nvSpPr>
        <p:spPr>
          <a:xfrm>
            <a:off x="2516040" y="1828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8"/>
          <p:cNvSpPr/>
          <p:nvPr/>
        </p:nvSpPr>
        <p:spPr>
          <a:xfrm>
            <a:off x="4573440" y="1828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9"/>
          <p:cNvSpPr/>
          <p:nvPr/>
        </p:nvSpPr>
        <p:spPr>
          <a:xfrm>
            <a:off x="2516400" y="228600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0"/>
          <p:cNvSpPr/>
          <p:nvPr/>
        </p:nvSpPr>
        <p:spPr>
          <a:xfrm>
            <a:off x="2516040" y="2743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1905120" y="2286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15840" y="27432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2"/>
          <p:cNvSpPr/>
          <p:nvPr/>
        </p:nvSpPr>
        <p:spPr>
          <a:xfrm>
            <a:off x="137160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3"/>
          <p:cNvSpPr/>
          <p:nvPr/>
        </p:nvSpPr>
        <p:spPr>
          <a:xfrm>
            <a:off x="91440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4"/>
          <p:cNvSpPr/>
          <p:nvPr/>
        </p:nvSpPr>
        <p:spPr>
          <a:xfrm>
            <a:off x="144792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5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6"/>
          <p:cNvSpPr/>
          <p:nvPr/>
        </p:nvSpPr>
        <p:spPr>
          <a:xfrm>
            <a:off x="0" y="2819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-main-pic" descr="Картинка 11 из 18466"/>
          <p:cNvPicPr/>
          <p:nvPr/>
        </p:nvPicPr>
        <p:blipFill>
          <a:blip r:embed="rId1"/>
          <a:stretch/>
        </p:blipFill>
        <p:spPr>
          <a:xfrm>
            <a:off x="1828800" y="5334120"/>
            <a:ext cx="2666880" cy="129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2" name="i-main-pic" descr="Картинка 41 из 3757"/>
          <p:cNvPicPr/>
          <p:nvPr/>
        </p:nvPicPr>
        <p:blipFill>
          <a:blip r:embed="rId2"/>
          <a:stretch/>
        </p:blipFill>
        <p:spPr>
          <a:xfrm>
            <a:off x="4648320" y="4572000"/>
            <a:ext cx="4190760" cy="20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i-main-pic" descr="Картинка 161 из 1063"/>
          <p:cNvPicPr/>
          <p:nvPr/>
        </p:nvPicPr>
        <p:blipFill>
          <a:blip r:embed="rId3"/>
          <a:stretch/>
        </p:blipFill>
        <p:spPr>
          <a:xfrm>
            <a:off x="228600" y="3505320"/>
            <a:ext cx="1523880" cy="236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i-main-pic" descr="Картинка 16 из 64927"/>
          <p:cNvPicPr/>
          <p:nvPr/>
        </p:nvPicPr>
        <p:blipFill>
          <a:blip r:embed="rId4"/>
          <a:stretch/>
        </p:blipFill>
        <p:spPr>
          <a:xfrm>
            <a:off x="7543800" y="1600200"/>
            <a:ext cx="1219320" cy="117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i-main-pic" descr="Картинка 24 из 143898"/>
          <p:cNvPicPr/>
          <p:nvPr/>
        </p:nvPicPr>
        <p:blipFill>
          <a:blip r:embed="rId5"/>
          <a:stretch/>
        </p:blipFill>
        <p:spPr>
          <a:xfrm>
            <a:off x="5943600" y="2895480"/>
            <a:ext cx="274320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6" name="i-main-pic" descr="Картинка 65 из 41794"/>
          <p:cNvPicPr/>
          <p:nvPr/>
        </p:nvPicPr>
        <p:blipFill>
          <a:blip r:embed="rId6"/>
          <a:stretch/>
        </p:blipFill>
        <p:spPr>
          <a:xfrm>
            <a:off x="2286000" y="3505320"/>
            <a:ext cx="1676520" cy="167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Oval 136"/>
          <p:cNvSpPr/>
          <p:nvPr/>
        </p:nvSpPr>
        <p:spPr>
          <a:xfrm>
            <a:off x="2286000" y="3505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8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9"/>
          <p:cNvSpPr/>
          <p:nvPr/>
        </p:nvSpPr>
        <p:spPr>
          <a:xfrm>
            <a:off x="18288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0"/>
          <p:cNvSpPr/>
          <p:nvPr/>
        </p:nvSpPr>
        <p:spPr>
          <a:xfrm>
            <a:off x="228600" y="35812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>
            <a:off x="6019920" y="2895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>
            <a:off x="4724280" y="4648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3"/>
          <p:cNvSpPr/>
          <p:nvPr/>
        </p:nvSpPr>
        <p:spPr>
          <a:xfrm>
            <a:off x="1447920" y="4572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5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0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1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10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1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rishvin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Rectangle 8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 М. Пришви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86200" y="1294920"/>
            <a:ext cx="5029200" cy="533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хозяева нашей природы, и она для нас кладовая солнца с великими сокровищами жизни. Мало того, чтобы сокровища эти охранять - их надо открывать и показывать.  Рыбе  -  вода, птице - воздух, зверю - лес, степь, горы. А человеку нужна Родина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хранять природу - значит охранять Родину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5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43000" y="2590920"/>
            <a:ext cx="7086600" cy="380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узнал(а)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спытал(а) чувств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 хочу, чтобы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04920" y="304920"/>
            <a:ext cx="8610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ЛОВА ПРИ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" y="571500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реда.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28600" y="4495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хранять природу – охранять Родину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8600" y="3352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здаёт, радует, восхищае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28600" y="24382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вая, прекрасна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28600" y="15238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иро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2-18T11:27:13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